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2B3-1EBB-4D3A-B241-2DB0B958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EDE-2878-420F-9393-AF8E8773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3E3-958A-4C92-B5ED-288CB398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3CF-7CC2-46BE-BC45-B2626DCC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38B9-F048-4C91-BBC0-9132443A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7F12-1E28-415D-AA04-89404983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4AB6-690F-43D7-A1F7-D66831DC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8860-2CF4-42E9-AF04-6988B3FE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3F07-58FE-4227-BF9D-2B0A40BB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44C5-C583-428B-A630-AFA3009A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425C-6D6E-4B97-B02A-7D6C8EF3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41B-C4D7-43DE-8326-5B8E0A7F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B719-8432-4ADC-A489-9FD376A9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787B-9FCA-4361-A860-B3747F67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B1B2-B86B-41A6-973D-170D67CC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22D8-3B07-40BF-8579-0F15DED0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3844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086720"/>
            <a:ext cx="2698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89AC-E694-49D6-9CD0-9390F442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5ED6-7CD1-4847-B8AF-D9D26806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151-8155-4AA6-BB34-3587A72A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EA2-4D4F-4F93-AEE2-A0A2389B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760" y="15192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579-D042-4801-84C4-B52C34DE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DC2-259C-4DEB-ACB5-A7980E6A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0867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D32-CB65-4C25-AC81-DD48C1BD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3844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6720"/>
            <a:ext cx="83822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BD95-2DC5-4B3A-ABC2-2635F5F3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16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2133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75BF-798F-4156-B57F-A1DD3A0053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73844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0440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4320" y="6400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9999-2921-49AE-AD20-9B5B7D9465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rEPSACrLmA" TargetMode="External"/><Relationship Id="rId2" Type="http://schemas.openxmlformats.org/officeDocument/2006/relationships/hyperlink" Target="http://www.youtube.com/watch?v=MLvP6b0fwBQ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are of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the enviro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1042920" y="566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5003640" y="58453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op li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7487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cyc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843280" y="19080"/>
            <a:ext cx="2449440" cy="1384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961920" y="2689200"/>
            <a:ext cx="3764160" cy="2840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4788000" y="2195640"/>
            <a:ext cx="3184560" cy="3465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4"/>
          <a:stretch/>
        </p:blipFill>
        <p:spPr>
          <a:xfrm>
            <a:off x="947880" y="1557360"/>
            <a:ext cx="70419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y t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542960" y="1484280"/>
            <a:ext cx="6234120" cy="360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795760" cy="197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179280" y="4297320"/>
            <a:ext cx="2952720" cy="2203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4"/>
          <a:stretch/>
        </p:blipFill>
        <p:spPr>
          <a:xfrm>
            <a:off x="5100480" y="4724280"/>
            <a:ext cx="26766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340000" y="2708280"/>
            <a:ext cx="4457520" cy="3381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nd 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08000" y="1484280"/>
            <a:ext cx="2646360" cy="2170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6227640" y="148428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t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163600" y="2060640"/>
            <a:ext cx="4392720" cy="439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4643280" y="1741320"/>
            <a:ext cx="4046760" cy="2706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024000" cy="211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4"/>
          <a:stretch/>
        </p:blipFill>
        <p:spPr>
          <a:xfrm>
            <a:off x="611280" y="3776760"/>
            <a:ext cx="17143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ff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408720" cy="4805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rcRect l="0" t="0" r="0" b="7241"/>
          <a:stretch/>
        </p:blipFill>
        <p:spPr>
          <a:xfrm>
            <a:off x="5580000" y="4149720"/>
            <a:ext cx="33418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nd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10960" y="1557360"/>
            <a:ext cx="4197600" cy="3147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4140360" y="3637080"/>
            <a:ext cx="4608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don Riot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145040" cy="2808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4395960" y="1700280"/>
            <a:ext cx="4201920" cy="252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5867280" y="4133880"/>
            <a:ext cx="2730600" cy="246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4"/>
          <a:stretch/>
        </p:blipFill>
        <p:spPr>
          <a:xfrm>
            <a:off x="2916360" y="3297240"/>
            <a:ext cx="297000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5"/>
          <a:stretch/>
        </p:blipFill>
        <p:spPr>
          <a:xfrm>
            <a:off x="2916360" y="5145120"/>
            <a:ext cx="2950920" cy="17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6"/>
          <a:stretch/>
        </p:blipFill>
        <p:spPr>
          <a:xfrm>
            <a:off x="620640" y="4348080"/>
            <a:ext cx="2276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838680" y="141300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3917880" cy="2606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192240" y="3732120"/>
            <a:ext cx="5532120" cy="310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4"/>
          <a:stretch/>
        </p:blipFill>
        <p:spPr>
          <a:xfrm>
            <a:off x="7105680" y="4286160"/>
            <a:ext cx="176220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76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don Riot Community clean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7487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tter Pi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552680" y="1785960"/>
            <a:ext cx="2896920" cy="3682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427640" y="17794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4427640" y="3627360"/>
            <a:ext cx="24667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9:54:02Z</dcterms:created>
  <dc:creator>RuthBentham</dc:creator>
  <dc:description/>
  <dc:language>en-US</dc:language>
  <cp:lastModifiedBy>alicia chisnall</cp:lastModifiedBy>
  <dcterms:modified xsi:type="dcterms:W3CDTF">2012-12-31T16:11:28Z</dcterms:modified>
  <cp:revision>30</cp:revision>
  <dc:subject/>
  <dc:title>Recyc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71033</vt:lpwstr>
  </property>
</Properties>
</file>